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5CC-E86E-47D4-84A7-C42C6405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1DF-7477-444A-8F52-7811FFC8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721-61CC-48A6-80E4-BB1B9B73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F4C-803F-423E-BB23-3CA45589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50F-75B8-4424-9334-82C783D5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CDA-33DF-4EAF-9C83-99584C6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196-F7F1-4B2A-B1CA-5B68B70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6A7-DED3-49D6-96C0-F9F70CE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528-D78E-4307-A3E6-0034017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1C4-2B7B-4FB2-BBB1-687B2309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51A-77E3-4C9B-944A-1457339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6D0-E707-450F-A97A-CE2005F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9F5-C669-48C3-858B-F7BDB0B15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743200"/>
            <a:ext cx="8686800" cy="3694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124080"/>
            <a:ext cx="86104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76920" y="838080"/>
            <a:ext cx="373356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24280" y="1066680"/>
            <a:ext cx="4114800" cy="495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143000"/>
            <a:ext cx="4724280" cy="495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8120"/>
            <a:ext cx="84582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514600"/>
            <a:ext cx="8534520" cy="4123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743200"/>
            <a:ext cx="845820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4647960" cy="5792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914400"/>
            <a:ext cx="4191120" cy="6472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9:59:50Z</dcterms:created>
  <dc:creator>TIC</dc:creator>
  <dc:description/>
  <dc:language>en-US</dc:language>
  <cp:lastModifiedBy>TIC</cp:lastModifiedBy>
  <dcterms:modified xsi:type="dcterms:W3CDTF">2009-07-08T09:10:41Z</dcterms:modified>
  <cp:revision>133</cp:revision>
  <dc:subject/>
  <dc:title>Presentación de PowerPoint</dc:title>
</cp:coreProperties>
</file>